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7126-1B8A-4A74-B7F8-FB2F77FB7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7EAE-0859-471B-B55E-0DC91B94C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8701-9B03-4A5A-B108-A53A9D46C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0607-5357-4BCB-A858-AC3D19DD9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4278-D2AC-428E-A1C8-86156BE92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EB6F-5F56-451D-B9E8-53136663D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C3A7-873A-44EB-9707-68804DF0B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2B9F-125B-4B71-9BA6-BC5A67372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AA68-84FF-4578-AC68-6B0E9D543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A41B-FBDA-4BFC-ADD4-E8EA39A5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51C4-F9B2-40E8-906F-29250DF4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2652-5DDC-4AC1-86B6-E8298AA4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C7F26-0E82-45FF-B0DB-E1926C05724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50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15:07Z</dcterms:created>
  <dc:creator>Peter Watson</dc:creator>
  <dc:description/>
  <dc:language>en-US</dc:language>
  <cp:lastModifiedBy>Peter Watson</cp:lastModifiedBy>
  <dcterms:modified xsi:type="dcterms:W3CDTF">2010-10-04T14:15:07Z</dcterms:modified>
  <cp:revision>1</cp:revision>
  <dc:subject/>
  <dc:title>Slide 1</dc:title>
</cp:coreProperties>
</file>